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E7F5-DEC7-42C3-9745-AA3F29F0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D1B2-FFBA-49E3-B72B-EB590F7B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F91F-C3BB-426E-88D2-2745904D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0A15-6FE8-41A0-A4C3-0AF44D01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7F04-7F18-4571-B208-0EDCB2A6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F594-A86D-444D-BD3D-70C2E1A8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6603-DEC1-4F38-9F16-80C19697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D73D-A6A1-4010-8D95-9F396B6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7972-DFFB-4544-A799-2C1EEB39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DC6F-3134-47C6-9D75-144805FD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9FC7-2545-4CB6-9521-2B28840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ADFC-AC69-4C66-86F0-9DFCFD5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3D4B-6C2C-43B9-98FF-948EA8CC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D740-DA7E-4EAE-AA4E-7A9CD6FC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03CC-B7DA-4727-B89C-91437EC7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62B9-DC27-4FC2-A95E-5B3247C7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E6EF-D959-457C-8419-B57E45FE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3A1B-2230-4716-8FE3-6AFA92E8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B9D7-D184-4EB4-AA61-E3E25A38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2766-10A2-4AE7-AC8D-B0B71C37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F4D4-5269-4973-9F9D-87A5F12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4DAB-D4F7-4CE2-8D38-A61AD76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A4F8-8C83-4F2D-87E9-7626516C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D519-8F0B-4424-A91F-96060AFB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5D1D-F5C5-44CF-8CEB-0CF7DED7C14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AC23-93B0-48C0-8621-F15AD0C6F6F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359720"/>
            <a:ext cx="11279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3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дно чудесно място зн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то ми копней за там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ушам гласа на Бога м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училището съботн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2266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запознах се с Бога м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ой приема ме за Св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вяра черпя и пок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училището съботн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21640" y="1792800"/>
            <a:ext cx="7772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 и ти, послушай с н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ова от милия Ису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крепяй се от Словот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училището съботн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27:29Z</dcterms:modified>
  <cp:revision>16</cp:revision>
  <dc:subject/>
  <dc:title>Slide 1</dc:title>
</cp:coreProperties>
</file>